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FD708-6E16-4183-897B-CA9D9979629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1F5CA-9B1B-43A5-856C-C0BAF421D80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26167-D674-4508-B545-1F3BD360F9F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E50A4-2279-44E0-8712-1238597BB17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E9697-0C85-4836-BFC1-8AFF6B00AC6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4D500-3044-455D-B40E-D74AC30E09C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AC864-1E7C-4EFF-AB5B-D5F6D5264C5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EFE87-7DE4-4136-9DC7-43CFC7435DC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E725C-743C-4716-89F4-C60C9B98633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514F1-BACD-4588-80AC-2C4C917B16E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D9E88-D601-49DA-9C2D-9E9ACAA3A6E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A0372-8872-4B7E-B7C1-02EDD5A233F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E4DBB-0260-494A-9B7B-6A4911DB84E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53282-FECB-4361-90AB-B815F0598DF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D5397-8C4E-4124-A3B8-7CD97A8E266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275F8-4D28-44A7-824C-8403E077213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9C058-33DA-4FF8-A98B-B392F2E909A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74B24-EB5F-457C-92B7-B56C8502A89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72B7D-E557-4DE8-892B-197D6C1D9BC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4C996-202A-476C-8C58-FBEFB7B2C98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10328-1109-4AAB-A5E5-9859B510758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D4E64-E98F-438E-AA37-018AC15ACCA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E00F34-F37A-420B-A97F-7ACEBC8436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55D68A62-5FD4-4805-86A3-7FDFE3F6DB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2F10408B-6084-4871-8B10-C8332D9B32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63DCE6BD-933A-44AF-BD19-F2E537FB4B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9EA97318-06FF-4A44-A6C5-0413F54443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6C9BCD6A-2285-43A1-A87A-DFDA47B9E8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2EC3CCEC-B2A0-4451-94EF-2BAB1B5AF7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4390EBEE-E49A-4A98-B4F9-818624E62B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6DB15867-0374-427C-9E5E-E964769670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8C53091-E89B-4817-AA3E-DB910FB35B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D8CF70D6-F8A6-4A51-BF6E-D9C877F667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3840200-2AA9-4F59-B75A-29E624257F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99266-2BD1-42C9-9F4F-CD4B79185B6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a:t>
            </a:r>
            <a:br>
              <a:rPr sz="4400"/>
            </a:br>
            <a:r>
              <a:rPr b="1" lang="zh-CN" sz="4400" spc="-1" strike="noStrike">
                <a:solidFill>
                  <a:srgbClr val="ffffff"/>
                </a:solidFill>
                <a:latin typeface="黑体"/>
              </a:rPr>
              <a:t>人文社会学理论在护理中的应用</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人类基本需要层次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和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马斯洛人类基本需要层次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类基本需要层次论在护理中的应用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要是人对生理与社会要求的反应，人是生物和社会的整体，为了自身与社会的发展，必然产生一定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特征</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历史制约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共同性与独特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动力性及无限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性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的基本需要层次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爱与归属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实现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各需要层次之间的关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需要层次是像阶梯一样从低到高排列的</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维持生存所必需的低级需要必须立即和持续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高层次需要的产生不是突然的、跳跃的现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们满足需要的优先顺序并非一成不变，可能有颠倒</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越高的需要，满足的方式越有个体差异</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类基本需要被满足的程度与健康状况密切相关</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需要满足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和知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及信仰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因素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人类基本需要层次理论在护理中应用</a:t>
            </a:r>
            <a:endParaRPr b="1" lang="en-US" sz="36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识别和预测患者未被满足的需要</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生理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刺激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安全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爱和归属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尊重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实现的需要 </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更好地领悟和理解患者的言行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排列和区分护理问题的轻重缓急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成长与发展的理论</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成长与发展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本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长</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生长，指由于细胞增殖而产生的生理方面的改变，表现为机体整体和各组织器官的长大或改变，是量的变化。</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发育，指生命中有顺序的可预期的功能改变，是个体随年龄增长及与环境间的互动而产生的身心变化过程。</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狭义的成熟指生理上的生长发育，广义的包括心理社会的发展。</a:t>
            </a:r>
            <a:endParaRPr b="1" lang="en-US" sz="20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主要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生理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认知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情感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精神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社会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道德方面</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一般系统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人类基本需要层次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成长与发展的理论</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a:t>
            </a:r>
            <a:r>
              <a:rPr b="1" lang="en-US" sz="3200" spc="-1" strike="noStrike">
                <a:solidFill>
                  <a:srgbClr val="000000"/>
                </a:solidFill>
                <a:latin typeface="宋体"/>
              </a:rPr>
              <a:t> </a:t>
            </a:r>
            <a:r>
              <a:rPr b="1" lang="zh-CN" sz="3200" spc="-1" strike="noStrike">
                <a:solidFill>
                  <a:srgbClr val="000000"/>
                </a:solidFill>
                <a:latin typeface="宋体"/>
              </a:rPr>
              <a:t>应激与适应的理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9" name=""/>
          <p:cNvSpPr txBox="1"/>
          <p:nvPr/>
        </p:nvSpPr>
        <p:spPr>
          <a:xfrm>
            <a:off x="328320" y="1125000"/>
            <a:ext cx="8474040" cy="521676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预测性</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顺序性</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上到下或由头至尾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近到远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粗到细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简单到复杂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低级到高级 </a:t>
            </a:r>
            <a:endParaRPr b="1" lang="en-US" sz="2400" spc="-1" strike="noStrike">
              <a:solidFill>
                <a:srgbClr val="000000"/>
              </a:solidFill>
              <a:latin typeface="宋体"/>
            </a:endParaRPr>
          </a:p>
          <a:p>
            <a:pPr lvl="1" marL="720720" indent="-27720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连续性和阶段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平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敏感时期性 </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3" name=""/>
          <p:cNvSpPr txBox="1"/>
          <p:nvPr/>
        </p:nvSpPr>
        <p:spPr>
          <a:xfrm>
            <a:off x="323640" y="1197000"/>
            <a:ext cx="8474040" cy="521640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成长与发展的因素</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遗传因素</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因素</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孕母状况</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营养</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家庭</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文化</a:t>
            </a:r>
            <a:endParaRPr b="1" lang="en-US" sz="24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潜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前意识</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本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超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弗洛伊德的性心理发展学说</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心理发展阶段</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欲期（</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18</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肛欲期（</a:t>
            </a:r>
            <a:r>
              <a:rPr b="1" lang="en-US" sz="2400" spc="-1" strike="noStrike">
                <a:solidFill>
                  <a:srgbClr val="000000"/>
                </a:solidFill>
                <a:latin typeface="宋体"/>
              </a:rPr>
              <a:t>18</a:t>
            </a:r>
            <a:r>
              <a:rPr b="1" lang="zh-CN" sz="2400" spc="-1" strike="noStrike">
                <a:solidFill>
                  <a:srgbClr val="000000"/>
                </a:solidFill>
                <a:latin typeface="宋体"/>
              </a:rPr>
              <a:t>～</a:t>
            </a:r>
            <a:r>
              <a:rPr b="1" lang="en-US" sz="2400" spc="-1" strike="noStrike">
                <a:solidFill>
                  <a:srgbClr val="000000"/>
                </a:solidFill>
                <a:latin typeface="宋体"/>
              </a:rPr>
              <a:t>36</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性蕾期（</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潜伏期（</a:t>
            </a:r>
            <a:r>
              <a:rPr b="1" lang="en-US" sz="2400" spc="-1" strike="noStrike">
                <a:solidFill>
                  <a:srgbClr val="000000"/>
                </a:solidFill>
                <a:latin typeface="宋体"/>
              </a:rPr>
              <a:t>6</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殖期（</a:t>
            </a:r>
            <a:r>
              <a:rPr b="1" lang="en-US" sz="2400" spc="-1" strike="noStrike">
                <a:solidFill>
                  <a:srgbClr val="000000"/>
                </a:solidFill>
                <a:latin typeface="宋体"/>
              </a:rPr>
              <a:t>12</a:t>
            </a:r>
            <a:r>
              <a:rPr b="1" lang="zh-CN" sz="2400" spc="-1" strike="noStrike">
                <a:solidFill>
                  <a:srgbClr val="000000"/>
                </a:solidFill>
                <a:latin typeface="宋体"/>
              </a:rPr>
              <a:t>岁之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8</a:t>
            </a:r>
            <a:r>
              <a:rPr b="1" lang="zh-CN" sz="2800" spc="-1" strike="noStrike">
                <a:solidFill>
                  <a:srgbClr val="000000"/>
                </a:solidFill>
                <a:latin typeface="宋体"/>
              </a:rPr>
              <a:t>个心理社会发展阶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同一性</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亚杰的认知发展理论</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知运动阶段（</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运算阶段（</a:t>
            </a:r>
            <a:r>
              <a:rPr b="1" lang="en-US" sz="2800" spc="-1" strike="noStrike">
                <a:solidFill>
                  <a:srgbClr val="000000"/>
                </a:solidFill>
                <a:latin typeface="宋体"/>
              </a:rPr>
              <a:t>2</a:t>
            </a:r>
            <a:r>
              <a:rPr b="1" lang="zh-CN" sz="2800" spc="-1" strike="noStrike">
                <a:solidFill>
                  <a:srgbClr val="000000"/>
                </a:solidFill>
                <a:latin typeface="宋体"/>
              </a:rPr>
              <a:t>到六七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运算阶段（</a:t>
            </a:r>
            <a:r>
              <a:rPr b="1" lang="en-US" sz="2800" spc="-1" strike="noStrike">
                <a:solidFill>
                  <a:srgbClr val="000000"/>
                </a:solidFill>
                <a:latin typeface="宋体"/>
              </a:rPr>
              <a:t>7</a:t>
            </a:r>
            <a:r>
              <a:rPr b="1" lang="zh-CN" sz="2800" spc="-1" strike="noStrike">
                <a:solidFill>
                  <a:srgbClr val="000000"/>
                </a:solidFill>
                <a:latin typeface="宋体"/>
              </a:rPr>
              <a:t>～</a:t>
            </a:r>
            <a:r>
              <a:rPr b="1" lang="en-US" sz="2800" spc="-1" strike="noStrike">
                <a:solidFill>
                  <a:srgbClr val="000000"/>
                </a:solidFill>
                <a:latin typeface="宋体"/>
              </a:rPr>
              <a:t>1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形式运算阶段（</a:t>
            </a:r>
            <a:r>
              <a:rPr b="1" lang="en-US" sz="2800" spc="-1" strike="noStrike">
                <a:solidFill>
                  <a:srgbClr val="000000"/>
                </a:solidFill>
                <a:latin typeface="宋体"/>
              </a:rPr>
              <a:t>12</a:t>
            </a:r>
            <a:r>
              <a:rPr b="1" lang="zh-CN" sz="2800" spc="-1" strike="noStrike">
                <a:solidFill>
                  <a:srgbClr val="000000"/>
                </a:solidFill>
                <a:latin typeface="宋体"/>
              </a:rPr>
              <a:t>岁及以后）</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成长与发展的理论在护理中的应用</a:t>
            </a:r>
            <a:endParaRPr b="1" lang="en-US" sz="3600" spc="-1" strike="noStrike">
              <a:solidFill>
                <a:srgbClr val="ffffff"/>
              </a:solidFill>
              <a:latin typeface="黑体"/>
            </a:endParaRPr>
          </a:p>
        </p:txBody>
      </p:sp>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在护理中的应用</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理论在护理中的应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亚杰的认知发展理论在护理中的应用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应激与适应理论</a:t>
            </a:r>
            <a:endParaRPr b="1" lang="en-US" sz="4400" spc="-1" strike="noStrike">
              <a:solidFill>
                <a:srgbClr val="ffffff"/>
              </a:solidFill>
              <a:latin typeface="黑体"/>
            </a:endParaRPr>
          </a:p>
        </p:txBody>
      </p:sp>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与适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应激与适应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与适应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是机体在各种内外环境因素及社会、心理因素刺激时所出现的全身性非特异性适应反应的过程。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任何对个体内、外环境的平衡造成威胁从而引起个体经历应激的因素或者事物都称为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系统、开放系统、闭合系统、需要、成长、发展、应激、适应、应对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成长与发展的主要内容、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应激反应的规律和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适应的特点和适应的不同层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反应</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源作用于个体时所导致的一系列反应或表现称为应激反应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情感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改变</a:t>
            </a:r>
            <a:endParaRPr b="1" lang="en-US" sz="2400" spc="-1" strike="noStrike">
              <a:solidFill>
                <a:srgbClr val="000000"/>
              </a:solidFill>
              <a:latin typeface="宋体"/>
            </a:endParaRPr>
          </a:p>
          <a:p>
            <a:pPr lvl="2" marL="1143000" indent="-2286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源和应激反应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个应激源可以引起个体多种应激反应出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种应激源可引起同一种应激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几乎所有人对极端应激源的反应方式都是相同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同的人对相同的应激源的反应也可能是不同的，同一个人在不同的时期对相同的应激源的反应可能是不同的</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应激反应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数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强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持续时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感知</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支持系统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是在个体的内部和（或）外部环境特定的需求难以满足或远超出个体所能承受的范围时，个体采用持续性的认知和行为改变来处理这一特定需求的方法</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的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面对，增加对应激的抵抗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去除、削弱或避免应激源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寻求帮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采用缓解紧张的方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心理防卫机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心理防卫机制</a:t>
            </a:r>
            <a:endParaRPr b="1" lang="en-US" sz="4400" spc="-1" strike="noStrike">
              <a:solidFill>
                <a:srgbClr val="ffffff"/>
              </a:solidFill>
              <a:latin typeface="黑体"/>
            </a:endParaRPr>
          </a:p>
        </p:txBody>
      </p:sp>
      <p:sp>
        <p:nvSpPr>
          <p:cNvPr id="179" name=""/>
          <p:cNvSpPr txBox="1"/>
          <p:nvPr/>
        </p:nvSpPr>
        <p:spPr>
          <a:xfrm>
            <a:off x="71280" y="1356840"/>
            <a:ext cx="8786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防卫机制是一些能缓解紧张感、焦虑感，保护和促进个体自尊和自我概念的心理过程和行为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退化                                  转移</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理化                              反向形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潜抑                                  仿同化</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压抑                                  补偿</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否认                                   升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隔离</a:t>
            </a:r>
            <a:endParaRPr b="1" lang="en-US" sz="24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是指有机体想要满足自己的需求，而与环境发生调和作用的过程，它是一种动态的、交互的、有弹性的历程。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层次</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生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心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社会文化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知识技术层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特点</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塞里的应激学说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全身适应综合征</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警觉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抵抗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衰竭期</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局部适应综合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霍姆斯和拉赫的生活事件与疾病关系学说</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拉扎勒斯的应激和应对模式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评价</a:t>
            </a:r>
            <a:endParaRPr b="1" lang="en-US" sz="28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初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重新评价</a:t>
            </a:r>
            <a:endParaRPr b="1" lang="en-US" sz="24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一般系统论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成长与发展的规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应激源和应激反应的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叙述人们面对应激时的主要应对方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举例说明几种常用的心理防卫机制。</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阐述马斯洛需要层次论、艾瑞克森的心理社会发展学说、皮亚杰的认知发展理论、塞里的应激学说、拉扎勒斯的应激和应对模式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可能的应激源及对患者的影响程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环境的陌生和人际关系的生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来自于疾病本身的应激</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信息缺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社会方面的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护理工作有关的应激源</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协助患者适应应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的应激和应对情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助患者控制各类应激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提高患者的应对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需要层次论下列需要排列优先顺序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循环、免受伤害、体温、娱乐、事业有成</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睡眠、增加生活乐趣、营养、有尊严、爱情</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氧气、活动、免受伤害、良好人际关系、有尊严</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尊重、休息、营养、友谊、家庭和睦</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水电解质平衡、感官刺激、发挥自我潜能、受到赞扬、友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系统论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开放系统没有边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是自然系统的次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系统的整体功能大于各组成要素功能的总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系统的开放和闭合是绝对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开放系统与环境的作用是通过输入和输出完成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当个体经受某种压力时，调整自己的态度去认识和处理情况，属于</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心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社会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文化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技术适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皮亚杰的认知发展理论</a:t>
            </a:r>
            <a:r>
              <a:rPr b="1" lang="en-US" sz="2800" spc="-1" strike="noStrike">
                <a:solidFill>
                  <a:srgbClr val="000000"/>
                </a:solidFill>
                <a:latin typeface="宋体"/>
              </a:rPr>
              <a:t>, </a:t>
            </a:r>
            <a:r>
              <a:rPr b="1" lang="zh-CN" sz="2800" spc="-1" strike="noStrike">
                <a:solidFill>
                  <a:srgbClr val="000000"/>
                </a:solidFill>
                <a:latin typeface="宋体"/>
              </a:rPr>
              <a:t>出现初步逻辑思维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感知运动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前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后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形式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具体运算阶段</a:t>
            </a:r>
            <a:endParaRPr b="1" lang="en-US" sz="2800" spc="-1" strike="noStrike">
              <a:solidFill>
                <a:srgbClr val="000000"/>
              </a:solidFill>
              <a:latin typeface="宋体"/>
            </a:endParaRPr>
          </a:p>
        </p:txBody>
      </p:sp>
      <p:sp>
        <p:nvSpPr>
          <p:cNvPr id="19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下列关于艾瑞克森理论的发展阶段的叙述</a:t>
            </a:r>
            <a:r>
              <a:rPr b="1" lang="en-US" sz="2800" spc="-1" strike="noStrike">
                <a:solidFill>
                  <a:srgbClr val="000000"/>
                </a:solidFill>
                <a:latin typeface="宋体"/>
              </a:rPr>
              <a:t>, </a:t>
            </a:r>
            <a:r>
              <a:rPr b="1" lang="zh-CN" sz="2800" spc="-1" strike="noStrike">
                <a:solidFill>
                  <a:srgbClr val="000000"/>
                </a:solidFill>
                <a:latin typeface="宋体"/>
              </a:rPr>
              <a:t>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婴儿期，</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18</a:t>
            </a:r>
            <a:r>
              <a:rPr b="1" lang="zh-CN" sz="2800" spc="-1" strike="noStrike">
                <a:solidFill>
                  <a:srgbClr val="000000"/>
                </a:solidFill>
                <a:latin typeface="宋体"/>
              </a:rPr>
              <a:t>个月，发展危机是自主对羞愧</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学龄前期，</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岁，发展危机是主动对内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青春期，</a:t>
            </a:r>
            <a:r>
              <a:rPr b="1" lang="en-US" sz="2800" spc="-1" strike="noStrike">
                <a:solidFill>
                  <a:srgbClr val="000000"/>
                </a:solidFill>
                <a:latin typeface="宋体"/>
              </a:rPr>
              <a:t>12</a:t>
            </a:r>
            <a:r>
              <a:rPr b="1" lang="zh-CN" sz="2800" spc="-1" strike="noStrike">
                <a:solidFill>
                  <a:srgbClr val="000000"/>
                </a:solidFill>
                <a:latin typeface="宋体"/>
              </a:rPr>
              <a:t>～</a:t>
            </a:r>
            <a:r>
              <a:rPr b="1" lang="en-US" sz="2800" spc="-1" strike="noStrike">
                <a:solidFill>
                  <a:srgbClr val="000000"/>
                </a:solidFill>
                <a:latin typeface="宋体"/>
              </a:rPr>
              <a:t>18 </a:t>
            </a:r>
            <a:r>
              <a:rPr b="1" lang="zh-CN" sz="2800" spc="-1" strike="noStrike">
                <a:solidFill>
                  <a:srgbClr val="000000"/>
                </a:solidFill>
                <a:latin typeface="宋体"/>
              </a:rPr>
              <a:t>岁，发展危机是勤奋对自卑</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中年期，</a:t>
            </a:r>
            <a:r>
              <a:rPr b="1" lang="en-US" sz="2800" spc="-1" strike="noStrike">
                <a:solidFill>
                  <a:srgbClr val="000000"/>
                </a:solidFill>
                <a:latin typeface="宋体"/>
              </a:rPr>
              <a:t>35</a:t>
            </a:r>
            <a:r>
              <a:rPr b="1" lang="zh-CN" sz="2800" spc="-1" strike="noStrike">
                <a:solidFill>
                  <a:srgbClr val="000000"/>
                </a:solidFill>
                <a:latin typeface="宋体"/>
              </a:rPr>
              <a:t>～</a:t>
            </a:r>
            <a:r>
              <a:rPr b="1" lang="en-US" sz="2800" spc="-1" strike="noStrike">
                <a:solidFill>
                  <a:srgbClr val="000000"/>
                </a:solidFill>
                <a:latin typeface="宋体"/>
              </a:rPr>
              <a:t>65</a:t>
            </a:r>
            <a:r>
              <a:rPr b="1" lang="zh-CN" sz="2800" spc="-1" strike="noStrike">
                <a:solidFill>
                  <a:srgbClr val="000000"/>
                </a:solidFill>
                <a:latin typeface="宋体"/>
              </a:rPr>
              <a:t>岁，发展危机是亲密对孤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老年期，</a:t>
            </a:r>
            <a:r>
              <a:rPr b="1" lang="en-US" sz="2800" spc="-1" strike="noStrike">
                <a:solidFill>
                  <a:srgbClr val="000000"/>
                </a:solidFill>
                <a:latin typeface="宋体"/>
              </a:rPr>
              <a:t>65</a:t>
            </a:r>
            <a:r>
              <a:rPr b="1" lang="zh-CN" sz="2800" spc="-1" strike="noStrike">
                <a:solidFill>
                  <a:srgbClr val="000000"/>
                </a:solidFill>
                <a:latin typeface="宋体"/>
              </a:rPr>
              <a:t>岁以上，发展危机是创造对停滞</a:t>
            </a:r>
            <a:endParaRPr b="1" lang="en-US" sz="2800" spc="-1" strike="noStrike">
              <a:solidFill>
                <a:srgbClr val="000000"/>
              </a:solidFill>
              <a:latin typeface="宋体"/>
            </a:endParaRPr>
          </a:p>
        </p:txBody>
      </p:sp>
      <p:sp>
        <p:nvSpPr>
          <p:cNvPr id="20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 </a:t>
            </a:r>
            <a:r>
              <a:rPr b="1" lang="zh-CN" sz="2800" spc="-1" strike="noStrike">
                <a:solidFill>
                  <a:srgbClr val="000000"/>
                </a:solidFill>
                <a:latin typeface="宋体"/>
              </a:rPr>
              <a:t>弗洛伊德的性心理学说的人格结构理论包括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项）</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本我</a:t>
            </a:r>
            <a:r>
              <a:rPr b="1" lang="en-US" sz="2800" spc="-1" strike="noStrike">
                <a:solidFill>
                  <a:srgbClr val="000000"/>
                </a:solidFill>
                <a:latin typeface="宋体"/>
              </a:rPr>
              <a:t>    </a:t>
            </a:r>
            <a:r>
              <a:rPr b="1" lang="en-US" sz="2800" spc="-1" strike="noStrike">
                <a:solidFill>
                  <a:srgbClr val="000000"/>
                </a:solidFill>
                <a:latin typeface="宋体"/>
              </a:rPr>
              <a:t>B. </a:t>
            </a:r>
            <a:r>
              <a:rPr b="1" lang="zh-CN" sz="2800" spc="-1" strike="noStrike">
                <a:solidFill>
                  <a:srgbClr val="000000"/>
                </a:solidFill>
                <a:latin typeface="宋体"/>
              </a:rPr>
              <a:t>超我</a:t>
            </a:r>
            <a:r>
              <a:rPr b="1" lang="en-US" sz="2800" spc="-1" strike="noStrike">
                <a:solidFill>
                  <a:srgbClr val="000000"/>
                </a:solidFill>
                <a:latin typeface="宋体"/>
              </a:rPr>
              <a:t>    </a:t>
            </a:r>
            <a:r>
              <a:rPr b="1" lang="en-US" sz="2800" spc="-1" strike="noStrike">
                <a:solidFill>
                  <a:srgbClr val="000000"/>
                </a:solidFill>
                <a:latin typeface="宋体"/>
              </a:rPr>
              <a:t>C. </a:t>
            </a:r>
            <a:r>
              <a:rPr b="1" lang="zh-CN" sz="2800" spc="-1" strike="noStrike">
                <a:solidFill>
                  <a:srgbClr val="000000"/>
                </a:solidFill>
                <a:latin typeface="宋体"/>
              </a:rPr>
              <a:t>自尊</a:t>
            </a:r>
            <a:r>
              <a:rPr b="1" lang="en-US" sz="2800" spc="-1" strike="noStrike">
                <a:solidFill>
                  <a:srgbClr val="000000"/>
                </a:solidFill>
                <a:latin typeface="宋体"/>
              </a:rPr>
              <a:t>    </a:t>
            </a:r>
            <a:r>
              <a:rPr b="1" lang="en-US" sz="2800" spc="-1" strike="noStrike">
                <a:solidFill>
                  <a:srgbClr val="000000"/>
                </a:solidFill>
                <a:latin typeface="宋体"/>
              </a:rPr>
              <a:t>D. </a:t>
            </a:r>
            <a:r>
              <a:rPr b="1" lang="zh-CN" sz="2800" spc="-1" strike="noStrike">
                <a:solidFill>
                  <a:srgbClr val="000000"/>
                </a:solidFill>
                <a:latin typeface="宋体"/>
              </a:rPr>
              <a:t>自我意识</a:t>
            </a:r>
            <a:r>
              <a:rPr b="1" lang="en-US" sz="2800" spc="-1" strike="noStrike">
                <a:solidFill>
                  <a:srgbClr val="000000"/>
                </a:solidFill>
                <a:latin typeface="宋体"/>
              </a:rPr>
              <a:t>    </a:t>
            </a:r>
            <a:r>
              <a:rPr b="1" lang="en-US" sz="2800" spc="-1" strike="noStrike">
                <a:solidFill>
                  <a:srgbClr val="000000"/>
                </a:solidFill>
                <a:latin typeface="宋体"/>
              </a:rPr>
              <a:t>E. </a:t>
            </a:r>
            <a:r>
              <a:rPr b="1" lang="zh-CN" sz="2800" spc="-1" strike="noStrike">
                <a:solidFill>
                  <a:srgbClr val="000000"/>
                </a:solidFill>
                <a:latin typeface="宋体"/>
              </a:rPr>
              <a:t>自我</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护理实践中，灵活运用一般系统论、基本需要理论、成长与发展理论、应激与适应理论为患者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一般系统论</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在护理中的应用</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论的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概念</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系统（</a:t>
            </a:r>
            <a:r>
              <a:rPr b="1" lang="en-US" sz="2000" spc="-1" strike="noStrike">
                <a:solidFill>
                  <a:srgbClr val="000000"/>
                </a:solidFill>
                <a:latin typeface="宋体"/>
              </a:rPr>
              <a:t>system</a:t>
            </a:r>
            <a:r>
              <a:rPr b="1" lang="zh-CN" sz="2000" spc="-1" strike="noStrike">
                <a:solidFill>
                  <a:srgbClr val="000000"/>
                </a:solidFill>
                <a:latin typeface="宋体"/>
              </a:rPr>
              <a:t>）是存在于一定环境之中，由若干相互联系、相互依赖、相互制约、相互作用的要素组成的具有一定结构和功能的有机整体。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分类</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照组成系统的要素性质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的运动状态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与环境的关系分类 </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的基本属性</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体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关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动态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目的性</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一般系统论在护理中的应用</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众多护理理论的理论基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使整体护理思想的形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服务对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实践</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护理程序的理论框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3:35:54Z</dcterms:created>
  <dc:creator>Microsoft Office 用户</dc:creator>
  <dc:description/>
  <dc:language>en-US</dc:language>
  <cp:lastModifiedBy>赵欣</cp:lastModifiedBy>
  <dcterms:modified xsi:type="dcterms:W3CDTF">2016-01-22T06:50:03Z</dcterms:modified>
  <cp:revision>12</cp:revision>
  <dc:subject/>
  <dc:title>第四章  人文社会学理论在护理中的应用</dc:title>
</cp:coreProperties>
</file>